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B5A-5CBC-4D38-AFB5-CDAF936A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7928-2EDA-4D12-B600-D52D8B56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70E-AF0E-4C3C-A2D9-34CD8414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3D6E-5893-4213-8080-70D88EB0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0C85C-8D4B-4ABC-BCE2-D7432A78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8DB8E-978E-49F8-AB4C-5150C9EB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E135C-B75A-4A59-B78E-42886BDA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C988C-7E91-44EC-848E-8079DBCF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C2DC2-96CB-4D8F-B656-719AFC0E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5E7B9-084E-44B0-8FB3-29EF47AD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3D103-5030-4E14-B147-8475F92C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010-D426-4C65-87FA-B4E6535C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88DDE-8709-4AA4-966F-9023A1CF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0875C-938E-44B4-8576-D1A03BC6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FA692-7F34-465C-99E7-179A61F9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BEF2F-777A-4745-97D2-CAC652CA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1C736-F204-448C-8674-A648E1B5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D1B1-A886-43DC-89C9-B721C317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BFA-E36A-4B7D-8798-1557D8D6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2156-B5DF-4CDA-AB63-A9A86E45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FB9-793C-4803-A084-1009DB92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DCA-A95B-4526-BD0A-2B4C3F79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7F26-8906-48F7-857A-2BF5A8A7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35A-9AAD-43C2-A7A7-6DED71E1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42AD-6C92-4FB2-9071-15B37E74B0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0E92-8E03-4F02-8404-E4343A92F7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uffalonewyorktourism.com/images/ItalyFlag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Los animale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or Eric and Steve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Tigre dientes de s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525780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s pa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133720"/>
            <a:ext cx="331488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343400" y="2286000"/>
            <a:ext cx="4533840" cy="3019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79440" y="15238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27:28Z</dcterms:created>
  <dc:creator>WSFCS Workstation</dc:creator>
  <dc:description/>
  <dc:language>en-US</dc:language>
  <cp:lastModifiedBy>WSFCS Workstation</cp:lastModifiedBy>
  <dcterms:modified xsi:type="dcterms:W3CDTF">2010-04-26T15:55:44Z</dcterms:modified>
  <cp:revision>3</cp:revision>
  <dc:subject/>
  <dc:title>Los animales</dc:title>
</cp:coreProperties>
</file>